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9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dt" idx="4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ftr" idx="4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 type="sldNum" idx="4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E2EF-785C-456E-8721-CCD6615BC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sson 9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E03A-A667-4B60-9379-8413451359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4D34-689E-4557-AEBB-C8955654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5AF8-F95B-4988-896A-DD1AB889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32984-73C4-4066-BAE6-397305EB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5AFF8-896F-4991-B173-C2530CCF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66A1D-6F9D-4F9F-A71E-1C3565BF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76CA8-086B-4D29-A0BB-AA753A83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461FD-8203-445E-93DF-E8A60C1D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B0B56-C24D-4DEC-9AD2-66FC8338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32133-7428-4D3B-821E-8409BBB4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35995-2A2F-4EBC-8DBA-481B3482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F5FAE-FA54-48F1-9153-E3A9D301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B9EFB-3612-432B-AD77-2DF5A8F1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FCF3-139A-47EA-A9BA-DC263718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DC456-750D-4B87-BE40-DE85DC03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550F3-3FA6-4123-BC4D-051BEBA7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37F0F-FF6A-402D-9A67-DA6F8FE9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7E26A-21BB-4E84-A786-E1612B8B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1873F-FCB6-426B-9D6F-DB714D34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E0FD8-BFA8-47C6-920C-4DE1A3E6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69E8E-7CEF-4F21-B87A-2B1742C0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63233-7367-452A-A8F7-46E07DEA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99E46-4A73-4F30-9F52-7870974D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88C69-156D-4315-AD18-581E91C7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3EDC-D4C2-4622-9FFE-63AB96F6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E34C6-F5D4-4F16-BC3C-E45F89B9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88715-CFB0-4A8B-9B2E-C0D2A382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7EC8C-CED0-4F23-B559-2C754083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27D14-97D4-46D7-87A7-B46929CD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E8821-4F8F-432C-9249-B4F29387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C1D74-F8DF-4A9A-A247-2FB2142E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0A57D-C439-4987-ACD6-1A9598F9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59B42-CA1E-497C-B4D1-0AE7E88A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64C61-B1A9-450C-A7F5-E2FE5AD8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A01A1-94C1-41A1-8667-FCF273CB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9A19-DE97-42BC-97F5-DE530F04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B80ED-222A-4B66-8878-0E29BA93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4A756-C62E-4061-89EF-E6B1561E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9C91A-0976-4E07-BC4F-DA96EB71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E9DE7-4134-4AA0-B59C-EF88CC19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23484-8DDD-495D-9199-A1531394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45D18-6B66-4073-B9A7-C9242A54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573F3-252F-456A-89B8-441CF3FF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AA914-CFEE-46B6-956C-538F6463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DEA84-74F2-4D17-92D8-1E1AED90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95C9D-894B-4BC5-BFF0-7C0325BE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3E61-1CDB-4CED-9581-39CB47AE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F16E3-E238-43BB-9815-8A538AD2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BC269-54AA-4327-BF09-08FCC38A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70E94-FBB4-4CE2-98FF-0D73BDB8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F2454-6E4B-483C-A06B-5661227C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69007-06AC-437F-BC94-C75C680E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F1F7FB-B001-470D-8BDE-8157EDE0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BA518E-7DFC-46C7-8D73-77F4EAE9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C5C65D-39C1-45D6-88AE-93670940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B2B8D8-5C4F-4D1F-A1D5-C1447887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6D129C-2840-4FE0-9283-9133B403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BE15-86B3-4ED5-8570-62BEF8A3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E5D3C5-D2D2-45AA-A44D-0D496E09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DC7E2B-2B07-4265-A3DE-7D65C31D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E626DE-AEB9-4E00-BB28-3C80168C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746164-0AB1-4C89-93A3-1AC1F077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99E077-2EBE-48D5-9306-9486E89D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E58E6D-2E6D-45D8-926C-80FD7435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DC7B39-2D25-480F-B521-C91C98EA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325D61-C8A2-439F-99C7-C67945BB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F2E97C-DE23-4F29-81E9-D1EFDF34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85FFB3-AF6D-4445-A687-DF4CC69A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3546-38C5-4989-8051-E95B8AA3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81B857-B371-46A6-88A1-256908E2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D6FE67-9C77-410D-91F4-598F969F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EDB6C0-CFF5-43F5-A347-00A3B6E7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473580-4F17-4A06-841C-BA9A8458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F200B1-44A5-4A22-9DDE-EAB51E4B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11CC34-70C3-4830-A0DA-FC941A43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5AA664-192A-4235-A68F-3CEF02F9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EEA950-D6A1-4CAE-BB52-388D4839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700CA-40B5-4694-BA0A-C1E1DE2DD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A340AD-DDE2-4B86-BFDE-42C12F6E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0764-942A-408B-8A48-8DD53D6A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976D3A-2DC1-4370-8669-B4081734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DFEC6D-1B10-4467-B3E1-60632F57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0842D5-381E-4142-A528-E7A556E5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E436E8-D551-4277-BA3D-3B514F97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0832E3-21DF-4741-86DB-F244B43E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9AC0F2-41EB-4A4D-B1DF-95BE4327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7C7D48-4B09-4EBC-8060-06D5BF58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BB2794-26B2-4718-9095-841AE7DC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45169C-27C1-497A-A713-42F20BB6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C26267-CAA1-4150-A68D-FCF420E9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F5D9-DE06-422D-8C9C-D488A98A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329449-8543-4086-9CAD-0F06CDB6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C453-3D08-44DA-8507-F31E3B93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62BE-BEFA-4B4D-BD2F-077BE94F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E039-F756-4623-98ED-63EB7FC3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5512-1656-4026-AE09-EDEA25FF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8E21-5F6E-431B-B524-FA3910A2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B3DD-9979-4A4C-AE41-604B713A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81ED-CA40-40AF-8799-CBE46B60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1518D-27F0-44F9-B32D-9691D39B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99F16-FEB1-4D35-BFAA-A6C80AFB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5D846-C8CF-42A2-AA84-1FDF8F4E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602A5-4E1F-4C88-8104-3A84A7DF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80F29-B672-4BF3-9B20-4FEFBDB1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413C-B74C-4711-9A0F-B4EC6BF5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826A7-EAF5-4216-AF90-D54FD3DB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0D933-957F-4B23-9B3C-7449A540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90AC5-3BAA-42AB-9EEF-DFF3E8F0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7F19B-2E52-433F-8210-3006F6FD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8F951-AC07-4DEE-9841-5329CFFC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E784E-DFA7-4FC9-BEE8-E346D6E4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1669A-0E9D-418C-AAA6-CB6DDC44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7B90F-55A6-4462-9F36-7F16A8DA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3228C-2CE1-444B-A126-8637F08C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AFA35-8C59-4B0B-81B8-73E101AE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D83-FBE4-4DF6-9D57-EC3EAE07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7AFF0-3277-42C7-A0B6-8947BC1B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15C84-05AE-40EC-9802-9175144E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101A9-2632-4582-B2B5-10639F09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6CF29-1474-449E-8879-477845F2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5F64A-3A35-478A-AC8C-44D7D9E7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36A67-125C-4DB5-8389-2FD49E4E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04B9C-109E-465B-91B9-01C7F192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4959C-ED5F-4010-AA1C-9039230F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5E2FE-2369-46C5-BAC3-3426CBA2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684BF-BF7A-4F65-B518-CAF12F4A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EEDE-7176-40CA-A1D1-A1BED84F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C7AA5-4BF6-4917-8C87-D2920441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154EA-BA59-4FBC-BBC2-11FC26AD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7D0CD-297E-4177-8D30-AC129D65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5B07E-8FF0-4588-A5E6-08E72019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DCC85-36AE-4AD4-B535-5C6D6701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E2DCE-A989-4BD8-A8A4-7DC5A8ED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CD93D-C4C8-45F9-BE1E-AA34BCF1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D6F4B-BC1D-4857-BE58-6DC00054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8DB2D-9DDF-4C2F-9686-9BEF7B59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2C4E7-FD4E-4921-AF30-7F3498A9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980B-41A3-412C-9AC4-3514BDC1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61B3F-3764-4E5F-A373-C37D6A73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E77BC-80ED-4E02-B6FE-30467BFD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080D6-1D6A-4B11-AC50-60D8627D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5E580-4FA4-4386-A670-EFFC9478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EBB89-A1A9-4C22-A616-0BD706FC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10683-FBED-483E-B742-60308386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06180-C885-4846-83C6-49A2DDE7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92E1F-B15F-4480-9EC8-FA8F2491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A6E5D-AF57-4568-8517-DD0C5ED0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B1078-86BF-4C8B-BF0E-0E0E7CE2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6DE6-0883-4A35-8602-6BA95C42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82624-720E-4699-80B1-68C996B2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DE0D9-DA6E-48D2-9F37-211F210E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F1214-A86B-4848-BA61-B583FEDE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EB907-CFD9-4A40-B11A-35281C7A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4CF1E-0FDA-4BF4-A237-F767C0F8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A5DE3-FEC9-498A-BB94-2719D27D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F8695-4AFE-4075-B5CF-3D166E88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5E496-4C51-42D5-8E3D-BA9C2B8C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B09AF-0DAA-43EF-8A3D-6B8091D3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DF277-C2BF-41EA-9D0F-E528C7F3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4975-2CFC-4FC3-857E-9E745160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F87C5-D2DA-4B64-BDF5-48375CC6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5B4B4-84D2-4065-9FF3-E651DB74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F68BF-238C-4AFA-B318-B95251D1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3022A-AD9C-4C2A-A420-AD8553305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4B635-84A5-4772-A05D-2E570FF1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4EB62-510B-48AA-97E1-B9562EFB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E98B3-02D6-4D73-999B-FBCA44CF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141A1-0535-45AC-BA74-9F8C0E85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5C479-32BF-4E37-B53D-A65DBDDB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3A54E-DA41-49FC-9F58-1580AB32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7E09-623A-4E1F-948F-D64D6DC7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AFDCE-7BB9-4F1D-B4FC-2AF873ED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8B62A-36D2-430B-927D-8AE4E239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FACFB-26C4-4614-B2F7-6BF3CD8D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89683-8A3E-49E2-97D5-59C34210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F2676-10E4-4C9C-B2FF-535F6B71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D0649-6CA9-46E5-A83E-97F84B6B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669A8-BC8B-466F-AD51-FC0EF774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69E03-71C5-44E9-9BF5-BC393167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0844B-DAF2-4847-8C0F-799D8868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3F267-4912-47D3-A700-F2ABFD2B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7548-E384-4BA8-97FB-CE88A048416C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E220-B494-41A6-90A0-71D29B240192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rot="16200000">
            <a:off x="10864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2666520" y="6356520"/>
            <a:ext cx="162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264E-0B1F-49C3-8154-A5EC5E757FB4}" type="datetime">
              <a:rPr b="0" lang="en-US" sz="1200" spc="-1" strike="noStrike">
                <a:solidFill>
                  <a:srgbClr val="000000"/>
                </a:solidFill>
                <a:latin typeface="Calisto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240840" y="6356520"/>
            <a:ext cx="189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1891800" y="5748480"/>
            <a:ext cx="762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000000"/>
                </a:solidFill>
                <a:latin typeface="Perpetua Titling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DA82-971C-4769-829C-28703C0ED1B9}" type="slidenum">
              <a:rPr b="0" lang="en-US" sz="3600" spc="-1" strike="noStrike">
                <a:solidFill>
                  <a:srgbClr val="000000"/>
                </a:solidFill>
                <a:latin typeface="Perpetua Titling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rot="16200000">
            <a:off x="10864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2670120" y="6356520"/>
            <a:ext cx="162720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4863-B433-416D-AF90-FC9C4C968EC9}" type="datetime">
              <a:rPr b="0" lang="en-US" sz="1200" spc="-1" strike="noStrike">
                <a:solidFill>
                  <a:srgbClr val="000000"/>
                </a:solidFill>
                <a:latin typeface="Calisto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240840" y="6356520"/>
            <a:ext cx="18939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1892160" y="5738760"/>
            <a:ext cx="7588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000000"/>
                </a:solidFill>
                <a:latin typeface="Perpetua Titling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65B8-6162-40BD-9FE4-EA1ACED1FAA2}" type="slidenum">
              <a:rPr b="0" lang="en-US" sz="3600" spc="-1" strike="noStrike">
                <a:solidFill>
                  <a:srgbClr val="000000"/>
                </a:solidFill>
                <a:latin typeface="Perpetua Titling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D5B1-B3C4-4F5D-A636-48F54F9677C8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EE48-A0A0-4236-BCAF-4E42ECD52849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B24C-389D-4F88-9122-95364DF163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B879-C1FC-493D-B80E-724A59C0C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4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BBD7-DF26-41E0-9A14-91E7E0DA9175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4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4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A173-11BB-4AB7-861C-2DFCDD197681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6" descr="Overlay-FullBackground.jpg"/>
          <p:cNvPicPr/>
          <p:nvPr/>
        </p:nvPicPr>
        <p:blipFill>
          <a:blip r:embed="rId3"/>
          <a:srcRect l="0" t="0" r="14720" b="0"/>
          <a:stretch/>
        </p:blipFill>
        <p:spPr>
          <a:xfrm>
            <a:off x="0" y="4680"/>
            <a:ext cx="7797960" cy="6858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flipH="1" rot="5400000">
            <a:off x="44218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43"/>
          </p:nvPr>
        </p:nvSpPr>
        <p:spPr>
          <a:xfrm>
            <a:off x="7924680" y="6356520"/>
            <a:ext cx="10670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17C4-0D72-451A-9A39-C97105055C30}" type="datetime">
              <a:rPr b="0" lang="en-US" sz="1200" spc="-1" strike="noStrike">
                <a:solidFill>
                  <a:srgbClr val="ffffff"/>
                </a:solidFill>
                <a:latin typeface="Calisto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4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4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CAAF-FF47-485C-9362-BAFC99603AA8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254C-10FE-41C8-AC88-39EE12DC2844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39FE-373D-40CC-8174-CC8D48E5ABEF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A000-C5EB-42EF-ADA3-28C3CD16CC55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2ABA-4E29-4FB5-842D-A720E24C9B5D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6242-3F95-4005-9BA6-807F4757BFAF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8A79-6B8E-4D25-A37B-0ADB53BBB68F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4446720"/>
            <a:ext cx="9144000" cy="125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Overlay-FullBackground.jpg"/>
          <p:cNvPicPr/>
          <p:nvPr/>
        </p:nvPicPr>
        <p:blipFill>
          <a:blip r:embed="rId4"/>
          <a:srcRect l="0" t="66668" r="0" b="0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47DE-B2DF-40AD-9387-E4E8C7CD4E35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6392-C877-4D9C-A4E8-4AB83485E7D1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9B7A-04EE-4282-AC04-2B9EBE3D07A4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4FAF-2A87-423E-B301-4CBBCF59BE4A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D978-3AAB-41BB-93E1-462E5EF74E7E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8E26-02BA-4A28-A8EB-550D3B048F66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Overlay-FullBackground.jpg"/>
          <p:cNvPicPr/>
          <p:nvPr/>
        </p:nvPicPr>
        <p:blipFill>
          <a:blip r:embed="rId4"/>
          <a:srcRect l="0" t="21048" r="0" b="0"/>
          <a:stretch/>
        </p:blipFill>
        <p:spPr>
          <a:xfrm>
            <a:off x="0" y="1447920"/>
            <a:ext cx="9144000" cy="541476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1A83-691B-415D-A41F-F26F6E2FACA7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2C23-7D68-4AF7-965F-4CC0DC2BBD67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494C-198D-40DA-A2B1-BD6D6370324B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7A19-5F50-4473-B34E-949DE9476AC5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0" y="63000"/>
            <a:ext cx="91440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Perpetua Titling MT"/>
              </a:rPr>
              <a:t>Recording Closing Entries</a:t>
            </a:r>
            <a:endParaRPr b="0" lang="en-US" sz="37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47" name="TextBox 4"/>
          <p:cNvSpPr/>
          <p:nvPr/>
        </p:nvSpPr>
        <p:spPr>
          <a:xfrm>
            <a:off x="152280" y="1530360"/>
            <a:ext cx="9144000" cy="53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333333"/>
                </a:solidFill>
                <a:uFillTx/>
                <a:latin typeface="Times New Roman"/>
              </a:rPr>
              <a:t>Permanent Account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ounts used to accumulate information from one fiscal to the nex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333333"/>
                </a:solidFill>
                <a:uFillTx/>
                <a:latin typeface="Times New Roman"/>
              </a:rPr>
              <a:t>Includ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Assets, Liability, and Owner’s Equity Capit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nding permanent accounts are the beginning balances for the next fiscal peri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333333"/>
                </a:solidFill>
                <a:uFillTx/>
                <a:latin typeface="Times New Roman"/>
              </a:rPr>
              <a:t>Temporary Account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ounts used to accumulate information until it is transferred to the owners equity capital accoun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333333"/>
                </a:solidFill>
                <a:uFillTx/>
                <a:latin typeface="Times New Roman"/>
              </a:rPr>
              <a:t>Includ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Revenue, Expenses, and Owner’s Equity Withdraw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mporary Accounts begin a new fiscal period with zero bala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Perpetua Titling MT"/>
              </a:rPr>
              <a:t>Closing Entries</a:t>
            </a:r>
            <a:endParaRPr b="0" lang="en-US" sz="39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49" name="TextBox 2"/>
          <p:cNvSpPr/>
          <p:nvPr/>
        </p:nvSpPr>
        <p:spPr>
          <a:xfrm>
            <a:off x="457200" y="1828800"/>
            <a:ext cx="81532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333333"/>
                </a:solidFill>
                <a:uFillTx/>
                <a:latin typeface="Times New Roman"/>
              </a:rPr>
              <a:t>Closing Entrie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Journal Entries used to prepare Temporary Accounts for the beginning of a new fiscal period.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To close the account, an amount equal to its balance is recorded on the side opposite its current balance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Perpetua Titling MT"/>
              </a:rPr>
              <a:t>Income Summary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51" name="Line 2"/>
          <p:cNvSpPr/>
          <p:nvPr/>
        </p:nvSpPr>
        <p:spPr>
          <a:xfrm>
            <a:off x="1676520" y="3276720"/>
            <a:ext cx="5790960" cy="0"/>
          </a:xfrm>
          <a:prstGeom prst="line">
            <a:avLst/>
          </a:prstGeom>
          <a:ln w="442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4648320" y="3276720"/>
            <a:ext cx="0" cy="990360"/>
          </a:xfrm>
          <a:prstGeom prst="line">
            <a:avLst/>
          </a:prstGeom>
          <a:ln w="442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Line 4"/>
          <p:cNvSpPr/>
          <p:nvPr/>
        </p:nvSpPr>
        <p:spPr>
          <a:xfrm flipV="1">
            <a:off x="1676520" y="5638680"/>
            <a:ext cx="5790960" cy="30240"/>
          </a:xfrm>
          <a:prstGeom prst="line">
            <a:avLst/>
          </a:prstGeom>
          <a:ln w="442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0" bIns="-61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Line 5"/>
          <p:cNvSpPr/>
          <p:nvPr/>
        </p:nvSpPr>
        <p:spPr>
          <a:xfrm>
            <a:off x="4648320" y="5715000"/>
            <a:ext cx="0" cy="838080"/>
          </a:xfrm>
          <a:prstGeom prst="line">
            <a:avLst/>
          </a:prstGeom>
          <a:ln w="442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TextBox 6"/>
          <p:cNvSpPr/>
          <p:nvPr/>
        </p:nvSpPr>
        <p:spPr>
          <a:xfrm>
            <a:off x="2600280" y="35812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b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TextBox 7"/>
          <p:cNvSpPr/>
          <p:nvPr/>
        </p:nvSpPr>
        <p:spPr>
          <a:xfrm>
            <a:off x="2600280" y="5943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b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TextBox 8"/>
          <p:cNvSpPr/>
          <p:nvPr/>
        </p:nvSpPr>
        <p:spPr>
          <a:xfrm>
            <a:off x="5796000" y="6019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TextBox 9"/>
          <p:cNvSpPr/>
          <p:nvPr/>
        </p:nvSpPr>
        <p:spPr>
          <a:xfrm>
            <a:off x="5796000" y="35812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TextBox 10"/>
          <p:cNvSpPr/>
          <p:nvPr/>
        </p:nvSpPr>
        <p:spPr>
          <a:xfrm>
            <a:off x="2766240" y="28144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 Income = Credit Ba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TextBox 11"/>
          <p:cNvSpPr/>
          <p:nvPr/>
        </p:nvSpPr>
        <p:spPr>
          <a:xfrm>
            <a:off x="2917800" y="5029200"/>
            <a:ext cx="34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 Loss = Credit Ba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TextBox 12"/>
          <p:cNvSpPr/>
          <p:nvPr/>
        </p:nvSpPr>
        <p:spPr>
          <a:xfrm>
            <a:off x="228600" y="1371600"/>
            <a:ext cx="84582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91003"/>
                </a:solidFill>
                <a:latin typeface="Times New Roman"/>
              </a:rPr>
              <a:t>A temporary account used to summarize the closing entries for revenue and expense account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167760"/>
            <a:ext cx="9144000" cy="8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Perpetua Titling MT"/>
              </a:rPr>
              <a:t>CLOSING ENTRY FOR AN INCOME STATEMENT ACCOUNT WITH A CREDIT BALANCE</a:t>
            </a:r>
            <a:endParaRPr b="0" lang="en-US" sz="2900" spc="-1" strike="noStrike">
              <a:solidFill>
                <a:srgbClr val="ffffff"/>
              </a:solidFill>
              <a:latin typeface="Perpetua Titling MT"/>
            </a:endParaRPr>
          </a:p>
        </p:txBody>
      </p:sp>
      <p:pic>
        <p:nvPicPr>
          <p:cNvPr id="663" name="Picture 4" descr="D:\C21 PowerPoint\Multi_Journal\art for blue\Ch09\Ch09-02a.jpg"/>
          <p:cNvPicPr/>
          <p:nvPr/>
        </p:nvPicPr>
        <p:blipFill>
          <a:blip r:embed="rId2"/>
          <a:srcRect l="17523" t="0" r="0" b="63354"/>
          <a:stretch/>
        </p:blipFill>
        <p:spPr>
          <a:xfrm>
            <a:off x="457200" y="1143000"/>
            <a:ext cx="6462720" cy="3757680"/>
          </a:xfrm>
          <a:prstGeom prst="rect">
            <a:avLst/>
          </a:prstGeom>
          <a:ln w="0">
            <a:noFill/>
          </a:ln>
        </p:spPr>
      </p:pic>
      <p:sp>
        <p:nvSpPr>
          <p:cNvPr id="664" name="Oval 6"/>
          <p:cNvSpPr/>
          <p:nvPr/>
        </p:nvSpPr>
        <p:spPr>
          <a:xfrm>
            <a:off x="1600200" y="335268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e5e5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1f07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Oval 7"/>
          <p:cNvSpPr/>
          <p:nvPr/>
        </p:nvSpPr>
        <p:spPr>
          <a:xfrm>
            <a:off x="533520" y="379260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e5e5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1f07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Text Box 8"/>
          <p:cNvSpPr/>
          <p:nvPr/>
        </p:nvSpPr>
        <p:spPr>
          <a:xfrm>
            <a:off x="514440" y="573264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ecord the debit, S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xt Box 9"/>
          <p:cNvSpPr/>
          <p:nvPr/>
        </p:nvSpPr>
        <p:spPr>
          <a:xfrm>
            <a:off x="514440" y="49942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1. Write the head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Text Box 10"/>
          <p:cNvSpPr/>
          <p:nvPr/>
        </p:nvSpPr>
        <p:spPr>
          <a:xfrm>
            <a:off x="514440" y="6095880"/>
            <a:ext cx="49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ecord the credit, Income Summar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Text Box 11"/>
          <p:cNvSpPr/>
          <p:nvPr/>
        </p:nvSpPr>
        <p:spPr>
          <a:xfrm>
            <a:off x="514440" y="5359320"/>
            <a:ext cx="39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0" name="Group 21"/>
          <p:cNvGrpSpPr/>
          <p:nvPr/>
        </p:nvGrpSpPr>
        <p:grpSpPr>
          <a:xfrm>
            <a:off x="2895480" y="4343400"/>
            <a:ext cx="3048120" cy="685800"/>
            <a:chOff x="2895480" y="4343400"/>
            <a:chExt cx="3048120" cy="685800"/>
          </a:xfrm>
        </p:grpSpPr>
        <p:sp>
          <p:nvSpPr>
            <p:cNvPr id="671" name="Line 14"/>
            <p:cNvSpPr/>
            <p:nvPr/>
          </p:nvSpPr>
          <p:spPr>
            <a:xfrm flipV="1">
              <a:off x="4724280" y="4343400"/>
              <a:ext cx="1219320" cy="38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Line 15"/>
            <p:cNvSpPr/>
            <p:nvPr/>
          </p:nvSpPr>
          <p:spPr>
            <a:xfrm flipH="1" flipV="1">
              <a:off x="2895480" y="4343400"/>
              <a:ext cx="1981440" cy="38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Oval 16"/>
            <p:cNvSpPr/>
            <p:nvPr/>
          </p:nvSpPr>
          <p:spPr>
            <a:xfrm>
              <a:off x="4572000" y="457200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e5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1f07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4" name="Group 27"/>
          <p:cNvGrpSpPr/>
          <p:nvPr/>
        </p:nvGrpSpPr>
        <p:grpSpPr>
          <a:xfrm>
            <a:off x="1828440" y="2098800"/>
            <a:ext cx="7112880" cy="1939680"/>
            <a:chOff x="1828440" y="2098800"/>
            <a:chExt cx="7112880" cy="1939680"/>
          </a:xfrm>
        </p:grpSpPr>
        <p:grpSp>
          <p:nvGrpSpPr>
            <p:cNvPr id="675" name="Group 22"/>
            <p:cNvGrpSpPr/>
            <p:nvPr/>
          </p:nvGrpSpPr>
          <p:grpSpPr>
            <a:xfrm>
              <a:off x="1828440" y="2514600"/>
              <a:ext cx="3657960" cy="1523880"/>
              <a:chOff x="1828440" y="2514600"/>
              <a:chExt cx="3657960" cy="1523880"/>
            </a:xfrm>
          </p:grpSpPr>
          <p:sp>
            <p:nvSpPr>
              <p:cNvPr id="676" name="Line 18"/>
              <p:cNvSpPr/>
              <p:nvPr/>
            </p:nvSpPr>
            <p:spPr>
              <a:xfrm>
                <a:off x="4800600" y="2819520"/>
                <a:ext cx="685800" cy="10666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Line 19"/>
              <p:cNvSpPr/>
              <p:nvPr/>
            </p:nvSpPr>
            <p:spPr>
              <a:xfrm flipH="1">
                <a:off x="1828440" y="2743200"/>
                <a:ext cx="3048120" cy="12952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Oval 20"/>
              <p:cNvSpPr/>
              <p:nvPr/>
            </p:nvSpPr>
            <p:spPr>
              <a:xfrm>
                <a:off x="4572000" y="2514600"/>
                <a:ext cx="457200" cy="457200"/>
              </a:xfrm>
              <a:prstGeom prst="ellipse">
                <a:avLst/>
              </a:prstGeom>
              <a:solidFill>
                <a:srgbClr val="cc0000"/>
              </a:solidFill>
              <a:ln w="38160">
                <a:solidFill>
                  <a:srgbClr val="e5e5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21f07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Group 25"/>
            <p:cNvGrpSpPr/>
            <p:nvPr/>
          </p:nvGrpSpPr>
          <p:grpSpPr>
            <a:xfrm>
              <a:off x="5791320" y="2098800"/>
              <a:ext cx="3150000" cy="1904760"/>
              <a:chOff x="5791320" y="2098800"/>
              <a:chExt cx="3150000" cy="1904760"/>
            </a:xfrm>
          </p:grpSpPr>
          <p:sp>
            <p:nvSpPr>
              <p:cNvPr id="680" name="Freeform 23"/>
              <p:cNvSpPr/>
              <p:nvPr/>
            </p:nvSpPr>
            <p:spPr>
              <a:xfrm>
                <a:off x="5791320" y="2098800"/>
                <a:ext cx="1371600" cy="19047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Text Box 24"/>
              <p:cNvSpPr/>
              <p:nvPr/>
            </p:nvSpPr>
            <p:spPr>
              <a:xfrm>
                <a:off x="6921000" y="2830680"/>
                <a:ext cx="2020320" cy="398880"/>
              </a:xfrm>
              <a:prstGeom prst="rect">
                <a:avLst/>
              </a:prstGeom>
              <a:solidFill>
                <a:srgbClr val="921f07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33"/>
                    </a:solidFill>
                    <a:latin typeface="Arial"/>
                  </a:rPr>
                  <a:t>(Debit to close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2" name="Text Box 26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9-2, page 2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erpetua Titling MT"/>
              </a:rPr>
              <a:t>CLOSING ENTRY FOR INCOME STATEMENT ACCOUNTS WITH DEBIT BALANCES</a:t>
            </a:r>
            <a:endParaRPr b="0" lang="en-US" sz="2800" spc="-1" strike="noStrike">
              <a:solidFill>
                <a:srgbClr val="ffffff"/>
              </a:solidFill>
              <a:latin typeface="Perpetua Titling MT"/>
            </a:endParaRPr>
          </a:p>
        </p:txBody>
      </p:sp>
      <p:pic>
        <p:nvPicPr>
          <p:cNvPr id="684" name="Picture 4" descr="D:\C21 PowerPoint\Multi_Journal\art for blue\Ch09\Ch09-02b.jpg"/>
          <p:cNvPicPr/>
          <p:nvPr/>
        </p:nvPicPr>
        <p:blipFill>
          <a:blip r:embed="rId2"/>
          <a:srcRect l="16285" t="0" r="0" b="54526"/>
          <a:stretch/>
        </p:blipFill>
        <p:spPr>
          <a:xfrm>
            <a:off x="457200" y="1676520"/>
            <a:ext cx="5850000" cy="4952880"/>
          </a:xfrm>
          <a:prstGeom prst="rect">
            <a:avLst/>
          </a:prstGeom>
          <a:ln w="0">
            <a:noFill/>
          </a:ln>
        </p:spPr>
      </p:pic>
      <p:sp>
        <p:nvSpPr>
          <p:cNvPr id="685" name="Oval 5"/>
          <p:cNvSpPr/>
          <p:nvPr/>
        </p:nvSpPr>
        <p:spPr>
          <a:xfrm>
            <a:off x="2590920" y="4724280"/>
            <a:ext cx="38088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e5e5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1f07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Oval 6"/>
          <p:cNvSpPr/>
          <p:nvPr/>
        </p:nvSpPr>
        <p:spPr>
          <a:xfrm>
            <a:off x="533520" y="4894200"/>
            <a:ext cx="38088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e5e5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1f07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Text Box 7"/>
          <p:cNvSpPr/>
          <p:nvPr/>
        </p:nvSpPr>
        <p:spPr>
          <a:xfrm>
            <a:off x="6248520" y="24908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ecord the credi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Text Box 8"/>
          <p:cNvSpPr/>
          <p:nvPr/>
        </p:nvSpPr>
        <p:spPr>
          <a:xfrm>
            <a:off x="6248520" y="17524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1. Write the da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Text Box 9"/>
          <p:cNvSpPr/>
          <p:nvPr/>
        </p:nvSpPr>
        <p:spPr>
          <a:xfrm>
            <a:off x="6248520" y="285444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ecord the debi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Text Box 10"/>
          <p:cNvSpPr/>
          <p:nvPr/>
        </p:nvSpPr>
        <p:spPr>
          <a:xfrm>
            <a:off x="6248520" y="21178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Income Summary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Oval 14"/>
          <p:cNvSpPr/>
          <p:nvPr/>
        </p:nvSpPr>
        <p:spPr>
          <a:xfrm>
            <a:off x="5181480" y="4724280"/>
            <a:ext cx="38124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e5e5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1f07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2" name="Group 26"/>
          <p:cNvGrpSpPr/>
          <p:nvPr/>
        </p:nvGrpSpPr>
        <p:grpSpPr>
          <a:xfrm>
            <a:off x="4876920" y="2438280"/>
            <a:ext cx="3645360" cy="3962160"/>
            <a:chOff x="4876920" y="2438280"/>
            <a:chExt cx="3645360" cy="3962160"/>
          </a:xfrm>
        </p:grpSpPr>
        <p:grpSp>
          <p:nvGrpSpPr>
            <p:cNvPr id="693" name="Group 25"/>
            <p:cNvGrpSpPr/>
            <p:nvPr/>
          </p:nvGrpSpPr>
          <p:grpSpPr>
            <a:xfrm>
              <a:off x="4876920" y="2438280"/>
              <a:ext cx="1600200" cy="3962160"/>
              <a:chOff x="4876920" y="2438280"/>
              <a:chExt cx="1600200" cy="3962160"/>
            </a:xfrm>
          </p:grpSpPr>
          <p:sp>
            <p:nvSpPr>
              <p:cNvPr id="694" name="Freeform 21"/>
              <p:cNvSpPr/>
              <p:nvPr/>
            </p:nvSpPr>
            <p:spPr>
              <a:xfrm>
                <a:off x="4876920" y="2438280"/>
                <a:ext cx="1218960" cy="1218960"/>
              </a:xfrm>
              <a:prstGeom prst="pie">
                <a:avLst/>
              </a:prstGeom>
              <a:noFill/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Freeform 22"/>
              <p:cNvSpPr/>
              <p:nvPr/>
            </p:nvSpPr>
            <p:spPr>
              <a:xfrm>
                <a:off x="6095880" y="3428640"/>
                <a:ext cx="381240" cy="2590920"/>
              </a:xfrm>
              <a:prstGeom prst="pie">
                <a:avLst/>
              </a:prstGeom>
              <a:noFill/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Freeform 23"/>
              <p:cNvSpPr/>
              <p:nvPr/>
            </p:nvSpPr>
            <p:spPr>
              <a:xfrm>
                <a:off x="6172200" y="5330520"/>
                <a:ext cx="152280" cy="1069920"/>
              </a:xfrm>
              <a:prstGeom prst="pie">
                <a:avLst/>
              </a:prstGeom>
              <a:noFill/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7" name="Text Box 24"/>
            <p:cNvSpPr/>
            <p:nvPr/>
          </p:nvSpPr>
          <p:spPr>
            <a:xfrm>
              <a:off x="6402960" y="4278240"/>
              <a:ext cx="2119320" cy="398880"/>
            </a:xfrm>
            <a:prstGeom prst="rect">
              <a:avLst/>
            </a:prstGeom>
            <a:solidFill>
              <a:srgbClr val="921f07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(Credit to clos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Oval 18"/>
            <p:cNvSpPr/>
            <p:nvPr/>
          </p:nvSpPr>
          <p:spPr>
            <a:xfrm>
              <a:off x="6400800" y="5867280"/>
              <a:ext cx="380880" cy="3808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e5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1f07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9" name="Text Box 27"/>
          <p:cNvSpPr/>
          <p:nvPr/>
        </p:nvSpPr>
        <p:spPr>
          <a:xfrm>
            <a:off x="7429320" y="670500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9-2, page 2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0" y="227160"/>
            <a:ext cx="91440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Perpetua Titling MT"/>
              </a:rPr>
              <a:t>CLOSING ENTRY TO RECORD NET INCOME OR LOSS AND CLOSE THE INCOME SUMMARY ACCOUNT</a:t>
            </a:r>
            <a:endParaRPr b="0" lang="en-US" sz="2500" spc="-1" strike="noStrike">
              <a:solidFill>
                <a:srgbClr val="ffffff"/>
              </a:solidFill>
              <a:latin typeface="Perpetua Titling MT"/>
            </a:endParaRPr>
          </a:p>
        </p:txBody>
      </p:sp>
      <p:pic>
        <p:nvPicPr>
          <p:cNvPr id="701" name="Picture 4" descr="D:\C21 PowerPoint\Multi_Journal\art for blue\Ch09\Ch09-02c.jpg"/>
          <p:cNvPicPr/>
          <p:nvPr/>
        </p:nvPicPr>
        <p:blipFill>
          <a:blip r:embed="rId2"/>
          <a:srcRect l="13786" t="0" r="0" b="59098"/>
          <a:stretch/>
        </p:blipFill>
        <p:spPr>
          <a:xfrm>
            <a:off x="457200" y="1531800"/>
            <a:ext cx="6005520" cy="3811680"/>
          </a:xfrm>
          <a:prstGeom prst="rect">
            <a:avLst/>
          </a:prstGeom>
          <a:ln w="0">
            <a:noFill/>
          </a:ln>
        </p:spPr>
      </p:pic>
      <p:sp>
        <p:nvSpPr>
          <p:cNvPr id="702" name="Oval 6"/>
          <p:cNvSpPr/>
          <p:nvPr/>
        </p:nvSpPr>
        <p:spPr>
          <a:xfrm>
            <a:off x="457200" y="442764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e5e5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1f07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Text Box 10"/>
          <p:cNvSpPr/>
          <p:nvPr/>
        </p:nvSpPr>
        <p:spPr>
          <a:xfrm>
            <a:off x="609480" y="6224760"/>
            <a:ext cx="47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ecord the credi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Text Box 11"/>
          <p:cNvSpPr/>
          <p:nvPr/>
        </p:nvSpPr>
        <p:spPr>
          <a:xfrm>
            <a:off x="609480" y="54864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1. Write the da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Text Box 13"/>
          <p:cNvSpPr/>
          <p:nvPr/>
        </p:nvSpPr>
        <p:spPr>
          <a:xfrm>
            <a:off x="609480" y="5851440"/>
            <a:ext cx="39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ecord the debi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6" name="Group 19"/>
          <p:cNvGrpSpPr/>
          <p:nvPr/>
        </p:nvGrpSpPr>
        <p:grpSpPr>
          <a:xfrm>
            <a:off x="3124080" y="5037120"/>
            <a:ext cx="2514600" cy="762120"/>
            <a:chOff x="3124080" y="5037120"/>
            <a:chExt cx="2514600" cy="762120"/>
          </a:xfrm>
        </p:grpSpPr>
        <p:sp>
          <p:nvSpPr>
            <p:cNvPr id="707" name="Line 16"/>
            <p:cNvSpPr/>
            <p:nvPr/>
          </p:nvSpPr>
          <p:spPr>
            <a:xfrm flipV="1">
              <a:off x="4572000" y="5037120"/>
              <a:ext cx="1066680" cy="5335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Line 17"/>
            <p:cNvSpPr/>
            <p:nvPr/>
          </p:nvSpPr>
          <p:spPr>
            <a:xfrm flipH="1" flipV="1">
              <a:off x="3124080" y="5037120"/>
              <a:ext cx="1295280" cy="5335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Oval 7"/>
            <p:cNvSpPr/>
            <p:nvPr/>
          </p:nvSpPr>
          <p:spPr>
            <a:xfrm>
              <a:off x="4267080" y="526572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e5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1f07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0" name="Group 18"/>
          <p:cNvGrpSpPr/>
          <p:nvPr/>
        </p:nvGrpSpPr>
        <p:grpSpPr>
          <a:xfrm>
            <a:off x="2666520" y="3208320"/>
            <a:ext cx="2210040" cy="1447560"/>
            <a:chOff x="2666520" y="3208320"/>
            <a:chExt cx="2210040" cy="1447560"/>
          </a:xfrm>
        </p:grpSpPr>
        <p:sp>
          <p:nvSpPr>
            <p:cNvPr id="711" name="Line 14"/>
            <p:cNvSpPr/>
            <p:nvPr/>
          </p:nvSpPr>
          <p:spPr>
            <a:xfrm>
              <a:off x="4419360" y="3665520"/>
              <a:ext cx="457200" cy="9144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Line 15"/>
            <p:cNvSpPr/>
            <p:nvPr/>
          </p:nvSpPr>
          <p:spPr>
            <a:xfrm flipH="1">
              <a:off x="2666520" y="3589200"/>
              <a:ext cx="1523880" cy="10666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Oval 9"/>
            <p:cNvSpPr/>
            <p:nvPr/>
          </p:nvSpPr>
          <p:spPr>
            <a:xfrm>
              <a:off x="4114440" y="3208320"/>
              <a:ext cx="53352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e5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1f07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4" name="Group 25"/>
          <p:cNvGrpSpPr/>
          <p:nvPr/>
        </p:nvGrpSpPr>
        <p:grpSpPr>
          <a:xfrm>
            <a:off x="5029200" y="2141640"/>
            <a:ext cx="3886200" cy="2743200"/>
            <a:chOff x="5029200" y="2141640"/>
            <a:chExt cx="3886200" cy="2743200"/>
          </a:xfrm>
        </p:grpSpPr>
        <p:sp>
          <p:nvSpPr>
            <p:cNvPr id="715" name="Freeform 21"/>
            <p:cNvSpPr/>
            <p:nvPr/>
          </p:nvSpPr>
          <p:spPr>
            <a:xfrm>
              <a:off x="5029200" y="2657520"/>
              <a:ext cx="3886200" cy="222732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Text Box 20"/>
            <p:cNvSpPr/>
            <p:nvPr/>
          </p:nvSpPr>
          <p:spPr>
            <a:xfrm>
              <a:off x="6324480" y="2141640"/>
              <a:ext cx="2133720" cy="580680"/>
            </a:xfrm>
            <a:prstGeom prst="rect">
              <a:avLst/>
            </a:prstGeom>
            <a:solidFill>
              <a:srgbClr val="921f07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(Capital: credit to record net inco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7" name="Group 26"/>
          <p:cNvGrpSpPr/>
          <p:nvPr/>
        </p:nvGrpSpPr>
        <p:grpSpPr>
          <a:xfrm>
            <a:off x="5486400" y="3075120"/>
            <a:ext cx="3124080" cy="1581120"/>
            <a:chOff x="5486400" y="3075120"/>
            <a:chExt cx="3124080" cy="1581120"/>
          </a:xfrm>
        </p:grpSpPr>
        <p:sp>
          <p:nvSpPr>
            <p:cNvPr id="718" name="Freeform 23"/>
            <p:cNvSpPr/>
            <p:nvPr/>
          </p:nvSpPr>
          <p:spPr>
            <a:xfrm>
              <a:off x="5486400" y="3360960"/>
              <a:ext cx="1828800" cy="12952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Text Box 22"/>
            <p:cNvSpPr/>
            <p:nvPr/>
          </p:nvSpPr>
          <p:spPr>
            <a:xfrm>
              <a:off x="6553080" y="3075120"/>
              <a:ext cx="2057400" cy="580680"/>
            </a:xfrm>
            <a:prstGeom prst="rect">
              <a:avLst/>
            </a:prstGeom>
            <a:solidFill>
              <a:srgbClr val="921f07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(Income Summary: debit to clos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0" name="Text Box 27"/>
          <p:cNvSpPr/>
          <p:nvPr/>
        </p:nvSpPr>
        <p:spPr>
          <a:xfrm>
            <a:off x="7429320" y="65602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9-2, page 2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010280" cy="8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Perpetua Titling MT"/>
              </a:rPr>
              <a:t>CLOSING ENTRY FOR THE OWNER’S DRAWING ACCOUNT</a:t>
            </a:r>
            <a:endParaRPr b="0" lang="en-US" sz="2900" spc="-1" strike="noStrike">
              <a:solidFill>
                <a:srgbClr val="ffffff"/>
              </a:solidFill>
              <a:latin typeface="Perpetua Titling MT"/>
            </a:endParaRPr>
          </a:p>
        </p:txBody>
      </p:sp>
      <p:pic>
        <p:nvPicPr>
          <p:cNvPr id="722" name="Picture 4" descr="D:\C21 PowerPoint\Multi_Journal\art for blue\Ch09\Ch09-02d.jpg"/>
          <p:cNvPicPr/>
          <p:nvPr/>
        </p:nvPicPr>
        <p:blipFill>
          <a:blip r:embed="rId2"/>
          <a:srcRect l="17094" t="7291" r="0" b="64640"/>
          <a:stretch/>
        </p:blipFill>
        <p:spPr>
          <a:xfrm>
            <a:off x="457200" y="1608120"/>
            <a:ext cx="6207120" cy="3303720"/>
          </a:xfrm>
          <a:prstGeom prst="rect">
            <a:avLst/>
          </a:prstGeom>
          <a:ln w="0">
            <a:noFill/>
          </a:ln>
        </p:spPr>
      </p:pic>
      <p:sp>
        <p:nvSpPr>
          <p:cNvPr id="723" name="Oval 5"/>
          <p:cNvSpPr/>
          <p:nvPr/>
        </p:nvSpPr>
        <p:spPr>
          <a:xfrm>
            <a:off x="457200" y="389412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e5e5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1f07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Text Box 6"/>
          <p:cNvSpPr/>
          <p:nvPr/>
        </p:nvSpPr>
        <p:spPr>
          <a:xfrm>
            <a:off x="609480" y="6072120"/>
            <a:ext cx="47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ecord the credi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Text Box 7"/>
          <p:cNvSpPr/>
          <p:nvPr/>
        </p:nvSpPr>
        <p:spPr>
          <a:xfrm>
            <a:off x="609480" y="53341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1. Write the da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Text Box 8"/>
          <p:cNvSpPr/>
          <p:nvPr/>
        </p:nvSpPr>
        <p:spPr>
          <a:xfrm>
            <a:off x="609480" y="5699160"/>
            <a:ext cx="39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ecord the debi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7" name="Group 9"/>
          <p:cNvGrpSpPr/>
          <p:nvPr/>
        </p:nvGrpSpPr>
        <p:grpSpPr>
          <a:xfrm>
            <a:off x="3276720" y="4503600"/>
            <a:ext cx="2514600" cy="762120"/>
            <a:chOff x="3276720" y="4503600"/>
            <a:chExt cx="2514600" cy="762120"/>
          </a:xfrm>
        </p:grpSpPr>
        <p:sp>
          <p:nvSpPr>
            <p:cNvPr id="728" name="Line 10"/>
            <p:cNvSpPr/>
            <p:nvPr/>
          </p:nvSpPr>
          <p:spPr>
            <a:xfrm flipV="1">
              <a:off x="4724640" y="4503600"/>
              <a:ext cx="1066680" cy="5335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Line 11"/>
            <p:cNvSpPr/>
            <p:nvPr/>
          </p:nvSpPr>
          <p:spPr>
            <a:xfrm flipH="1" flipV="1">
              <a:off x="3276720" y="4503600"/>
              <a:ext cx="1295280" cy="5335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4419720" y="473220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e5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1f07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1" name="Group 22"/>
          <p:cNvGrpSpPr/>
          <p:nvPr/>
        </p:nvGrpSpPr>
        <p:grpSpPr>
          <a:xfrm>
            <a:off x="5029200" y="2481120"/>
            <a:ext cx="3886200" cy="1987560"/>
            <a:chOff x="5029200" y="2481120"/>
            <a:chExt cx="3886200" cy="1987560"/>
          </a:xfrm>
        </p:grpSpPr>
        <p:sp>
          <p:nvSpPr>
            <p:cNvPr id="732" name="Freeform 18"/>
            <p:cNvSpPr/>
            <p:nvPr/>
          </p:nvSpPr>
          <p:spPr>
            <a:xfrm>
              <a:off x="5029200" y="2698560"/>
              <a:ext cx="3886200" cy="177012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Text Box 19"/>
            <p:cNvSpPr/>
            <p:nvPr/>
          </p:nvSpPr>
          <p:spPr>
            <a:xfrm>
              <a:off x="6248520" y="2481120"/>
              <a:ext cx="2514600" cy="337320"/>
            </a:xfrm>
            <a:prstGeom prst="rect">
              <a:avLst/>
            </a:prstGeom>
            <a:solidFill>
              <a:srgbClr val="921f07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(Capital: credit to clos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4" name="Group 23"/>
          <p:cNvGrpSpPr/>
          <p:nvPr/>
        </p:nvGrpSpPr>
        <p:grpSpPr>
          <a:xfrm>
            <a:off x="2666880" y="2522520"/>
            <a:ext cx="2210040" cy="1600200"/>
            <a:chOff x="2666880" y="2522520"/>
            <a:chExt cx="2210040" cy="1600200"/>
          </a:xfrm>
        </p:grpSpPr>
        <p:sp>
          <p:nvSpPr>
            <p:cNvPr id="735" name="Line 14"/>
            <p:cNvSpPr/>
            <p:nvPr/>
          </p:nvSpPr>
          <p:spPr>
            <a:xfrm>
              <a:off x="3657600" y="2827440"/>
              <a:ext cx="1219320" cy="1218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Line 15"/>
            <p:cNvSpPr/>
            <p:nvPr/>
          </p:nvSpPr>
          <p:spPr>
            <a:xfrm flipH="1">
              <a:off x="2666880" y="2903400"/>
              <a:ext cx="990720" cy="1219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Oval 16"/>
            <p:cNvSpPr/>
            <p:nvPr/>
          </p:nvSpPr>
          <p:spPr>
            <a:xfrm>
              <a:off x="3429000" y="252252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e5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1f07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20:30:06Z</dcterms:created>
  <dc:creator>Mary Colleen McLaughlin</dc:creator>
  <dc:description/>
  <dc:language>en-US</dc:language>
  <cp:lastModifiedBy>David Combs</cp:lastModifiedBy>
  <cp:lastPrinted>1999-03-31T05:34:45Z</cp:lastPrinted>
  <dcterms:modified xsi:type="dcterms:W3CDTF">2012-11-30T17:13:10Z</dcterms:modified>
  <cp:revision>16</cp:revision>
  <dc:subject/>
  <dc:title>ADJUSTING ENTRY FOR SUPPLIES</dc:title>
</cp:coreProperties>
</file>